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.png" ContentType="image/png"/>
  <Override PartName="/ppt/media/image11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2.png" ContentType="image/png"/>
  <Override PartName="/ppt/media/image10.wmf" ContentType="image/x-wmf"/>
  <Override PartName="/ppt/media/image32.wmf" ContentType="image/x-wmf"/>
  <Override PartName="/ppt/media/image33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3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31.wmf" ContentType="image/x-wmf"/>
  <Override PartName="/ppt/media/image5.gif" ContentType="image/gif"/>
  <Override PartName="/ppt/media/image16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37.wmf" ContentType="image/x-wmf"/>
  <Override PartName="/ppt/media/image30.wmf" ContentType="image/x-wmf"/>
  <Override PartName="/ppt/media/image4.gif" ContentType="image/gif"/>
  <Override PartName="/ppt/media/image15.wmf" ContentType="image/x-wmf"/>
  <Override PartName="/ppt/media/image1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F169-FE9F-45A3-A84D-612AD87CB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6E7B-BE92-4866-B8BC-E135E190BA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9F91-796C-46E1-8A8B-64D0754A16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5B0D-F316-4C7C-BEC9-4BA0758CEA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4F2F-7625-46AF-942E-2F1B9020CF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file:///../THT_Chuyen%20de%20Thuc%20hien%20giao%20an%20dien%20tu/GDCD/Yeu%20thuong%20con%20nguoi.ppt" TargetMode="External"/><Relationship Id="rId3" Type="http://schemas.openxmlformats.org/officeDocument/2006/relationships/image" Target="../media/image2.png"/><Relationship Id="rId4" Type="http://schemas.openxmlformats.org/officeDocument/2006/relationships/hyperlink" Target="file:///../THT_Chuyen%20de%20Thuc%20hien%20giao%20an%20dien%20tu/GDCD/Yeu%20thuong%20con%20nguoi.ppt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../THT_Chuyen%20de%20Thuc%20hien%20giao%20an%20dien%20tu/GDCD/Yeu%20thuong%20con%20nguoi.ppt" TargetMode="External"/><Relationship Id="rId7" Type="http://schemas.openxmlformats.org/officeDocument/2006/relationships/image" Target="../media/image3.png"/><Relationship Id="rId8" Type="http://schemas.openxmlformats.org/officeDocument/2006/relationships/hyperlink" Target="file:///../THT_Chuyen%20de%20Thuc%20hien%20giao%20an%20dien%20tu/GDCD/Yeu%20thuong%20con%20nguoi.ppt" TargetMode="External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file:///../THT_Chuyen%20de%20Thuc%20hien%20giao%20an%20dien%20tu/GDCD/Yeu%20thuong%20con%20nguoi.ppt" TargetMode="External"/><Relationship Id="rId3" Type="http://schemas.openxmlformats.org/officeDocument/2006/relationships/image" Target="../media/image2.png"/><Relationship Id="rId4" Type="http://schemas.openxmlformats.org/officeDocument/2006/relationships/hyperlink" Target="file:///../THT_Chuyen%20de%20Thuc%20hien%20giao%20an%20dien%20tu/GDCD/Yeu%20thuong%20con%20nguoi.ppt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4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5.wmf"/><Relationship Id="rId5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Asian li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6056280"/>
            <a:ext cx="9144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Asian lil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6056280"/>
            <a:ext cx="914400" cy="80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Asian lil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29600" y="0"/>
            <a:ext cx="914400" cy="801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Asian lil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914400" cy="801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3200400" y="243828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1295280" y="0"/>
            <a:ext cx="133380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259092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392436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>
            <a:off x="521964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6"/>
          <a:stretch/>
        </p:blipFill>
        <p:spPr>
          <a:xfrm>
            <a:off x="651528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>
            <a:off x="7848720" y="0"/>
            <a:ext cx="133344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338120"/>
            <a:ext cx="8305920" cy="27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6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1f676"/>
                  </a:solidFill>
                  <a:miter/>
                </a:ln>
                <a:solidFill>
                  <a:srgbClr val="e1f676"/>
                </a:solidFill>
                <a:latin typeface="Times New Roman"/>
              </a:rPr>
              <a:t>Tuổi trẻ vững bước đến tương lai</a:t>
            </a:r>
            <a:endParaRPr b="0" lang="en-US" sz="1800" spc="1" strike="noStrike">
              <a:ln w="9360">
                <a:solidFill>
                  <a:srgbClr val="e1f676"/>
                </a:solidFill>
                <a:miter/>
              </a:ln>
              <a:solidFill>
                <a:srgbClr val="e1f676"/>
              </a:solidFill>
              <a:latin typeface="Times New Roman"/>
              <a:ea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 rot="21034800">
            <a:off x="76320" y="129528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29000" y="838080"/>
            <a:ext cx="5229360" cy="1204920"/>
          </a:xfrm>
          <a:prstGeom prst="borderCallout2">
            <a:avLst>
              <a:gd name="adj1" fmla="val 18750"/>
              <a:gd name="adj2" fmla="val -8333"/>
              <a:gd name="adj3" fmla="val 9486"/>
              <a:gd name="adj4" fmla="val -4643"/>
              <a:gd name="adj5" fmla="val 118972"/>
              <a:gd name="adj6" fmla="val -24314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ột tứ giác nội tiếp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Bốn đỉnh nằm trên một đường tròn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8487800">
            <a:off x="1790640" y="102816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Định nghĩ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2176560"/>
            <a:ext cx="520524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-8111"/>
              <a:gd name="adj5" fmla="val 11162"/>
              <a:gd name="adj6" fmla="val -24643"/>
            </a:avLst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ột tứ giác nội tiếp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Tổng hai góc đối nhau bằng 180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00560" y="3352680"/>
            <a:ext cx="5286240" cy="1828800"/>
          </a:xfrm>
          <a:prstGeom prst="borderCallout2">
            <a:avLst>
              <a:gd name="adj1" fmla="val 18750"/>
              <a:gd name="adj2" fmla="val -8333"/>
              <a:gd name="adj3" fmla="val 6250"/>
              <a:gd name="adj4" fmla="val -6518"/>
              <a:gd name="adj5" fmla="val -57032"/>
              <a:gd name="adj6" fmla="val -23513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ách 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Chỉ ra bốn đỉnh thuộc đường trò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ách 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Tổng hai góc đối nhau bằng 180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09680" y="190512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Times New Roman"/>
              </a:rPr>
              <a:t>ĐL(thuận và đ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3240" y="5485680"/>
            <a:ext cx="6764400" cy="5508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TVN: 54, 55, 56, 58  (Tr.89, 90 – SGK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 rot="3085200">
            <a:off x="2049840" y="3130920"/>
            <a:ext cx="121932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Chứng minh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11320" y="745560"/>
            <a:ext cx="222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 u="sng">
                <a:solidFill>
                  <a:srgbClr val="ff0000"/>
                </a:solidFill>
                <a:uFillTx/>
                <a:latin typeface="Times New Roman"/>
              </a:rPr>
              <a:t>Hướng dẫn:</a:t>
            </a:r>
            <a:r>
              <a:rPr b="0" lang="nl-NL" sz="3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34520" y="6400800"/>
            <a:ext cx="609480" cy="2286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52280" y="1330200"/>
            <a:ext cx="89154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Asian li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6056280"/>
            <a:ext cx="914400" cy="801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4" descr="Asian lil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6056280"/>
            <a:ext cx="914400" cy="801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Asian lily"/>
          <p:cNvPicPr/>
          <p:nvPr/>
        </p:nvPicPr>
        <p:blipFill>
          <a:blip r:embed="rId6"/>
          <a:stretch/>
        </p:blipFill>
        <p:spPr>
          <a:xfrm>
            <a:off x="8229600" y="0"/>
            <a:ext cx="914400" cy="801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4" descr="Asian lily"/>
          <p:cNvPicPr/>
          <p:nvPr/>
        </p:nvPicPr>
        <p:blipFill>
          <a:blip r:embed="rId7"/>
          <a:stretch/>
        </p:blipFill>
        <p:spPr>
          <a:xfrm>
            <a:off x="0" y="0"/>
            <a:ext cx="914400" cy="801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3200400" y="243828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0"/>
          <a:stretch/>
        </p:blipFill>
        <p:spPr>
          <a:xfrm>
            <a:off x="1295280" y="0"/>
            <a:ext cx="1333800" cy="5335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1"/>
          <a:stretch/>
        </p:blipFill>
        <p:spPr>
          <a:xfrm>
            <a:off x="259092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2"/>
          <a:stretch/>
        </p:blipFill>
        <p:spPr>
          <a:xfrm>
            <a:off x="392436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3"/>
          <a:stretch/>
        </p:blipFill>
        <p:spPr>
          <a:xfrm>
            <a:off x="521964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4"/>
          <a:stretch/>
        </p:blipFill>
        <p:spPr>
          <a:xfrm>
            <a:off x="6515280" y="0"/>
            <a:ext cx="1333440" cy="533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5"/>
          <a:stretch/>
        </p:blipFill>
        <p:spPr>
          <a:xfrm>
            <a:off x="7848720" y="0"/>
            <a:ext cx="1333440" cy="533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338120"/>
            <a:ext cx="8305920" cy="27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6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1f676"/>
                  </a:solidFill>
                  <a:miter/>
                </a:ln>
                <a:solidFill>
                  <a:srgbClr val="e1f676"/>
                </a:solidFill>
                <a:latin typeface="Times New Roman"/>
              </a:rPr>
              <a:t>Tuổi trẻ vững bước đến tương lai</a:t>
            </a:r>
            <a:endParaRPr b="0" lang="en-US" sz="1800" spc="1" strike="noStrike">
              <a:ln w="9360">
                <a:solidFill>
                  <a:srgbClr val="e1f676"/>
                </a:solidFill>
                <a:miter/>
              </a:ln>
              <a:solidFill>
                <a:srgbClr val="e1f676"/>
              </a:solidFill>
              <a:latin typeface="Times New Roman"/>
              <a:ea typeface="Times New Roman"/>
            </a:endParaRPr>
          </a:p>
        </p:txBody>
      </p:sp>
    </p:spTree>
  </p:cSld>
  <p:transition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9960" y="609120"/>
            <a:ext cx="8139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Quan sát các hình vẽ và tìm điểm khác biệt giữa tứ giác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H.1)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với các tứ giác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FG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H.2)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và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NPQ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H.3)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080" y="3962520"/>
            <a:ext cx="1905120" cy="2437920"/>
            <a:chOff x="838080" y="3962520"/>
            <a:chExt cx="1905120" cy="2437920"/>
          </a:xfrm>
        </p:grpSpPr>
        <p:sp>
          <p:nvSpPr>
            <p:cNvPr id="97" name=""/>
            <p:cNvSpPr/>
            <p:nvPr/>
          </p:nvSpPr>
          <p:spPr>
            <a:xfrm>
              <a:off x="838080" y="5105160"/>
              <a:ext cx="19051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Tứ giác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nội tiếp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đường tròn (O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676520" y="396252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52520" y="3733560"/>
            <a:ext cx="2591280" cy="2666880"/>
            <a:chOff x="4952520" y="3733560"/>
            <a:chExt cx="2591280" cy="2666880"/>
          </a:xfrm>
        </p:grpSpPr>
        <p:sp>
          <p:nvSpPr>
            <p:cNvPr id="100" name=""/>
            <p:cNvSpPr/>
            <p:nvPr/>
          </p:nvSpPr>
          <p:spPr>
            <a:xfrm>
              <a:off x="5257800" y="5105160"/>
              <a:ext cx="228600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Tứ giác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không nội tiếp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cc"/>
                  </a:solidFill>
                  <a:latin typeface="Times New Roman"/>
                </a:rPr>
                <a:t>đường tròn (O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4952520" y="3962160"/>
              <a:ext cx="83844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781680" y="3733560"/>
              <a:ext cx="76212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476760" y="2666880"/>
            <a:ext cx="1829520" cy="1953000"/>
            <a:chOff x="6476760" y="2666880"/>
            <a:chExt cx="1829520" cy="1953000"/>
          </a:xfrm>
        </p:grpSpPr>
        <p:sp>
          <p:nvSpPr>
            <p:cNvPr id="104" name=""/>
            <p:cNvSpPr/>
            <p:nvPr/>
          </p:nvSpPr>
          <p:spPr>
            <a:xfrm>
              <a:off x="7621920" y="4190760"/>
              <a:ext cx="607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H.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6920" y="2697120"/>
              <a:ext cx="1511280" cy="1512720"/>
            </a:xfrm>
            <a:prstGeom prst="ellipse">
              <a:avLst/>
            </a:prstGeom>
            <a:noFill/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82040" y="3036600"/>
              <a:ext cx="430200" cy="74772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6694560" y="3617280"/>
              <a:ext cx="1417680" cy="16668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18480" y="2900160"/>
              <a:ext cx="763560" cy="13644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694560" y="2899800"/>
              <a:ext cx="223920" cy="71748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313400" y="3436920"/>
              <a:ext cx="146880" cy="302400"/>
              <a:chOff x="7313400" y="3436920"/>
              <a:chExt cx="146880" cy="302400"/>
            </a:xfrm>
          </p:grpSpPr>
          <p:sp>
            <p:nvSpPr>
              <p:cNvPr id="111" name=""/>
              <p:cNvSpPr/>
              <p:nvPr/>
            </p:nvSpPr>
            <p:spPr>
              <a:xfrm>
                <a:off x="7414920" y="3436920"/>
                <a:ext cx="34560" cy="331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4920" y="3436920"/>
                <a:ext cx="34560" cy="331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13400" y="34956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666200" y="2903400"/>
              <a:ext cx="267840" cy="243720"/>
              <a:chOff x="7666200" y="2903400"/>
              <a:chExt cx="267840" cy="2437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66200" y="3019320"/>
                <a:ext cx="3312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66200" y="3019320"/>
                <a:ext cx="33120" cy="349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53320" y="2903400"/>
                <a:ext cx="18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476760" y="3530520"/>
              <a:ext cx="234720" cy="243720"/>
              <a:chOff x="6476760" y="3530520"/>
              <a:chExt cx="234720" cy="243720"/>
            </a:xfrm>
          </p:grpSpPr>
          <p:sp>
            <p:nvSpPr>
              <p:cNvPr id="119" name=""/>
              <p:cNvSpPr/>
              <p:nvPr/>
            </p:nvSpPr>
            <p:spPr>
              <a:xfrm>
                <a:off x="6676920" y="3600360"/>
                <a:ext cx="34560" cy="33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76920" y="3600360"/>
                <a:ext cx="34560" cy="3348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76760" y="353052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096400" y="3733560"/>
              <a:ext cx="209880" cy="243720"/>
              <a:chOff x="8096400" y="3733560"/>
              <a:chExt cx="209880" cy="243720"/>
            </a:xfrm>
          </p:grpSpPr>
          <p:sp>
            <p:nvSpPr>
              <p:cNvPr id="123" name=""/>
              <p:cNvSpPr/>
              <p:nvPr/>
            </p:nvSpPr>
            <p:spPr>
              <a:xfrm>
                <a:off x="8096400" y="3768480"/>
                <a:ext cx="33120" cy="33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96400" y="3768480"/>
                <a:ext cx="33120" cy="3348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59400" y="37335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730560" y="2666880"/>
              <a:ext cx="203760" cy="249120"/>
              <a:chOff x="6730560" y="2666880"/>
              <a:chExt cx="203760" cy="249120"/>
            </a:xfrm>
          </p:grpSpPr>
          <p:sp>
            <p:nvSpPr>
              <p:cNvPr id="127" name=""/>
              <p:cNvSpPr/>
              <p:nvPr/>
            </p:nvSpPr>
            <p:spPr>
              <a:xfrm>
                <a:off x="6900840" y="2882880"/>
                <a:ext cx="33480" cy="331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900840" y="2882880"/>
                <a:ext cx="33480" cy="331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0560" y="266688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687600" y="2895480"/>
            <a:ext cx="1945800" cy="1767240"/>
            <a:chOff x="687600" y="2895480"/>
            <a:chExt cx="1945800" cy="1767240"/>
          </a:xfrm>
        </p:grpSpPr>
        <p:sp>
          <p:nvSpPr>
            <p:cNvPr id="131" name=""/>
            <p:cNvSpPr/>
            <p:nvPr/>
          </p:nvSpPr>
          <p:spPr>
            <a:xfrm>
              <a:off x="687600" y="4233600"/>
              <a:ext cx="607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H.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2120" y="2909880"/>
              <a:ext cx="1511280" cy="151272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139760" y="3133440"/>
              <a:ext cx="201600" cy="69696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139400" y="3830400"/>
              <a:ext cx="1282680" cy="36216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341360" y="3120480"/>
              <a:ext cx="1060560" cy="126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01920" y="3120840"/>
              <a:ext cx="20520" cy="107172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760040" y="3649680"/>
              <a:ext cx="146880" cy="302400"/>
              <a:chOff x="1760040" y="3649680"/>
              <a:chExt cx="146880" cy="302400"/>
            </a:xfrm>
          </p:grpSpPr>
          <p:sp>
            <p:nvSpPr>
              <p:cNvPr id="138" name=""/>
              <p:cNvSpPr/>
              <p:nvPr/>
            </p:nvSpPr>
            <p:spPr>
              <a:xfrm>
                <a:off x="1861920" y="3649680"/>
                <a:ext cx="33480" cy="331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61920" y="3649680"/>
                <a:ext cx="33480" cy="331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60040" y="37083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167480" y="2895480"/>
              <a:ext cx="191160" cy="255600"/>
              <a:chOff x="1167480" y="2895480"/>
              <a:chExt cx="191160" cy="255600"/>
            </a:xfrm>
          </p:grpSpPr>
          <p:sp>
            <p:nvSpPr>
              <p:cNvPr id="142" name=""/>
              <p:cNvSpPr/>
              <p:nvPr/>
            </p:nvSpPr>
            <p:spPr>
              <a:xfrm>
                <a:off x="1323720" y="3117600"/>
                <a:ext cx="34920" cy="33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23720" y="3117600"/>
                <a:ext cx="34920" cy="3348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67480" y="289548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923040" y="3743280"/>
              <a:ext cx="234000" cy="243720"/>
              <a:chOff x="923040" y="3743280"/>
              <a:chExt cx="234000" cy="243720"/>
            </a:xfrm>
          </p:grpSpPr>
          <p:sp>
            <p:nvSpPr>
              <p:cNvPr id="146" name=""/>
              <p:cNvSpPr/>
              <p:nvPr/>
            </p:nvSpPr>
            <p:spPr>
              <a:xfrm>
                <a:off x="1123560" y="3813120"/>
                <a:ext cx="33480" cy="331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23560" y="3813120"/>
                <a:ext cx="33480" cy="331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23040" y="374328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404800" y="4141800"/>
              <a:ext cx="211680" cy="243720"/>
              <a:chOff x="2404800" y="4141800"/>
              <a:chExt cx="211680" cy="243720"/>
            </a:xfrm>
          </p:grpSpPr>
          <p:sp>
            <p:nvSpPr>
              <p:cNvPr id="150" name=""/>
              <p:cNvSpPr/>
              <p:nvPr/>
            </p:nvSpPr>
            <p:spPr>
              <a:xfrm>
                <a:off x="2404800" y="4174920"/>
                <a:ext cx="3348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04800" y="4174920"/>
                <a:ext cx="33480" cy="349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69600" y="41418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384280" y="2920680"/>
              <a:ext cx="180000" cy="243720"/>
              <a:chOff x="2384280" y="2920680"/>
              <a:chExt cx="180000" cy="243720"/>
            </a:xfrm>
          </p:grpSpPr>
          <p:sp>
            <p:nvSpPr>
              <p:cNvPr id="154" name=""/>
              <p:cNvSpPr/>
              <p:nvPr/>
            </p:nvSpPr>
            <p:spPr>
              <a:xfrm>
                <a:off x="2384280" y="3103560"/>
                <a:ext cx="3492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84280" y="3103560"/>
                <a:ext cx="34920" cy="349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27840" y="292068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962880" y="2514600"/>
            <a:ext cx="1833840" cy="2324160"/>
            <a:chOff x="3962880" y="2514600"/>
            <a:chExt cx="1833840" cy="2324160"/>
          </a:xfrm>
        </p:grpSpPr>
        <p:sp>
          <p:nvSpPr>
            <p:cNvPr id="158" name=""/>
            <p:cNvSpPr/>
            <p:nvPr/>
          </p:nvSpPr>
          <p:spPr>
            <a:xfrm>
              <a:off x="4745160" y="4409640"/>
              <a:ext cx="607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H.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78160" y="2917440"/>
              <a:ext cx="1513080" cy="1512720"/>
            </a:xfrm>
            <a:prstGeom prst="ellipse">
              <a:avLst/>
            </a:prstGeom>
            <a:noFill/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197240" y="3119040"/>
              <a:ext cx="222480" cy="71712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197240" y="3836160"/>
              <a:ext cx="1417680" cy="16812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419720" y="2739240"/>
              <a:ext cx="1157040" cy="37908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76760" y="2739600"/>
              <a:ext cx="38160" cy="126504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816080" y="3655800"/>
              <a:ext cx="146880" cy="303480"/>
              <a:chOff x="4816080" y="3655800"/>
              <a:chExt cx="146880" cy="303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917960" y="3655800"/>
                <a:ext cx="33480" cy="345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17960" y="3655800"/>
                <a:ext cx="33480" cy="3456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16080" y="37155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198680" y="2885760"/>
              <a:ext cx="237960" cy="250200"/>
              <a:chOff x="4198680" y="2885760"/>
              <a:chExt cx="237960" cy="250200"/>
            </a:xfrm>
          </p:grpSpPr>
          <p:sp>
            <p:nvSpPr>
              <p:cNvPr id="169" name=""/>
              <p:cNvSpPr/>
              <p:nvPr/>
            </p:nvSpPr>
            <p:spPr>
              <a:xfrm>
                <a:off x="4403520" y="3101400"/>
                <a:ext cx="33120" cy="345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03520" y="3101400"/>
                <a:ext cx="33120" cy="3456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198680" y="28857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962880" y="3749400"/>
              <a:ext cx="249840" cy="243720"/>
              <a:chOff x="3962880" y="3749400"/>
              <a:chExt cx="249840" cy="243720"/>
            </a:xfrm>
          </p:grpSpPr>
          <p:sp>
            <p:nvSpPr>
              <p:cNvPr id="173" name=""/>
              <p:cNvSpPr/>
              <p:nvPr/>
            </p:nvSpPr>
            <p:spPr>
              <a:xfrm>
                <a:off x="4179960" y="3818880"/>
                <a:ext cx="32760" cy="345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79960" y="3818880"/>
                <a:ext cx="32760" cy="3456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962880" y="374940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597640" y="3952440"/>
              <a:ext cx="199080" cy="243720"/>
              <a:chOff x="5597640" y="3952440"/>
              <a:chExt cx="199080" cy="243720"/>
            </a:xfrm>
          </p:grpSpPr>
          <p:sp>
            <p:nvSpPr>
              <p:cNvPr id="177" name=""/>
              <p:cNvSpPr/>
              <p:nvPr/>
            </p:nvSpPr>
            <p:spPr>
              <a:xfrm>
                <a:off x="5597640" y="3987000"/>
                <a:ext cx="33120" cy="331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97640" y="3987000"/>
                <a:ext cx="33120" cy="331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60280" y="395244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560920" y="2514600"/>
              <a:ext cx="219960" cy="243720"/>
              <a:chOff x="5560920" y="2514600"/>
              <a:chExt cx="219960" cy="243720"/>
            </a:xfrm>
          </p:grpSpPr>
          <p:sp>
            <p:nvSpPr>
              <p:cNvPr id="181" name=""/>
              <p:cNvSpPr/>
              <p:nvPr/>
            </p:nvSpPr>
            <p:spPr>
              <a:xfrm>
                <a:off x="5560920" y="2723760"/>
                <a:ext cx="33480" cy="331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0920" y="2723760"/>
                <a:ext cx="33480" cy="331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44440" y="25146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3529440" y="0"/>
            <a:ext cx="203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99"/>
                </a:solidFill>
                <a:uFillTx/>
                <a:latin typeface="Times New Roman"/>
              </a:rPr>
              <a:t>Khởi động</a:t>
            </a:r>
            <a:r>
              <a:rPr b="1" lang="en-US" sz="3000" spc="-1" strike="noStrike">
                <a:solidFill>
                  <a:srgbClr val="cc0099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1981080"/>
            <a:ext cx="487656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514600"/>
            <a:ext cx="8382240" cy="16470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</a:rPr>
              <a:t>Một tứ giác có bốn đỉnh nằm trên đường tròn được gọi là tứ giác nội tiếp đường tròn (gọi tắt là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tứ giác nội tiếp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552360" y="685800"/>
            <a:ext cx="1710720" cy="1527120"/>
            <a:chOff x="6552360" y="685800"/>
            <a:chExt cx="1710720" cy="1527120"/>
          </a:xfrm>
        </p:grpSpPr>
        <p:sp>
          <p:nvSpPr>
            <p:cNvPr id="188" name=""/>
            <p:cNvSpPr/>
            <p:nvPr/>
          </p:nvSpPr>
          <p:spPr>
            <a:xfrm>
              <a:off x="6751800" y="700200"/>
              <a:ext cx="1511280" cy="151272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769080" y="923760"/>
              <a:ext cx="201600" cy="69696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6768720" y="1620720"/>
              <a:ext cx="1282680" cy="36216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70680" y="910800"/>
              <a:ext cx="1060560" cy="126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1240" y="911160"/>
              <a:ext cx="20520" cy="107172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389360" y="1440000"/>
              <a:ext cx="146880" cy="302400"/>
              <a:chOff x="7389360" y="1440000"/>
              <a:chExt cx="146880" cy="302400"/>
            </a:xfrm>
          </p:grpSpPr>
          <p:sp>
            <p:nvSpPr>
              <p:cNvPr id="194" name=""/>
              <p:cNvSpPr/>
              <p:nvPr/>
            </p:nvSpPr>
            <p:spPr>
              <a:xfrm>
                <a:off x="7491240" y="1440000"/>
                <a:ext cx="33480" cy="33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91240" y="1440000"/>
                <a:ext cx="33480" cy="3348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89360" y="149868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796800" y="685800"/>
              <a:ext cx="191160" cy="255600"/>
              <a:chOff x="6796800" y="685800"/>
              <a:chExt cx="191160" cy="255600"/>
            </a:xfrm>
          </p:grpSpPr>
          <p:sp>
            <p:nvSpPr>
              <p:cNvPr id="198" name=""/>
              <p:cNvSpPr/>
              <p:nvPr/>
            </p:nvSpPr>
            <p:spPr>
              <a:xfrm>
                <a:off x="6953040" y="907920"/>
                <a:ext cx="34920" cy="33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953040" y="907920"/>
                <a:ext cx="34920" cy="3348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96800" y="6858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552360" y="1533600"/>
              <a:ext cx="234000" cy="243720"/>
              <a:chOff x="6552360" y="1533600"/>
              <a:chExt cx="234000" cy="243720"/>
            </a:xfrm>
          </p:grpSpPr>
          <p:sp>
            <p:nvSpPr>
              <p:cNvPr id="202" name=""/>
              <p:cNvSpPr/>
              <p:nvPr/>
            </p:nvSpPr>
            <p:spPr>
              <a:xfrm>
                <a:off x="6753240" y="1603440"/>
                <a:ext cx="33120" cy="334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53240" y="1603440"/>
                <a:ext cx="33120" cy="3348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52360" y="153360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034480" y="1932120"/>
              <a:ext cx="211320" cy="243720"/>
              <a:chOff x="8034480" y="1932120"/>
              <a:chExt cx="211320" cy="243720"/>
            </a:xfrm>
          </p:grpSpPr>
          <p:sp>
            <p:nvSpPr>
              <p:cNvPr id="206" name=""/>
              <p:cNvSpPr/>
              <p:nvPr/>
            </p:nvSpPr>
            <p:spPr>
              <a:xfrm>
                <a:off x="8034480" y="1965600"/>
                <a:ext cx="3312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34480" y="1965600"/>
                <a:ext cx="33120" cy="349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098920" y="19321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8013600" y="711360"/>
              <a:ext cx="180360" cy="243720"/>
              <a:chOff x="8013600" y="711360"/>
              <a:chExt cx="180360" cy="243720"/>
            </a:xfrm>
          </p:grpSpPr>
          <p:sp>
            <p:nvSpPr>
              <p:cNvPr id="210" name=""/>
              <p:cNvSpPr/>
              <p:nvPr/>
            </p:nvSpPr>
            <p:spPr>
              <a:xfrm>
                <a:off x="8013600" y="893880"/>
                <a:ext cx="3492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13600" y="893880"/>
                <a:ext cx="34920" cy="34920"/>
              </a:xfrm>
              <a:prstGeom prst="ellipse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57520" y="71136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380880" y="1752480"/>
            <a:ext cx="2133720" cy="520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efde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720" y="1751760"/>
            <a:ext cx="648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Times New Roman"/>
              </a:rPr>
              <a:t>Thế nào là tứ giác nội tiếp đường tròn?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0400" y="609480"/>
            <a:ext cx="167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99"/>
                </a:solidFill>
                <a:uFillTx/>
                <a:latin typeface="Times New Roman"/>
              </a:rPr>
              <a:t>Bài toán</a:t>
            </a:r>
            <a:r>
              <a:rPr b="1" lang="en-US" sz="3000" spc="-1" strike="noStrike">
                <a:solidFill>
                  <a:srgbClr val="cc0099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76320" y="1219320"/>
            <a:ext cx="548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3000" spc="-1" strike="noStrike">
                <a:solidFill>
                  <a:srgbClr val="000000"/>
                </a:solidFill>
                <a:latin typeface="Times New Roman"/>
              </a:rPr>
              <a:t>Cho tứ giác ABCD nội tiếp (O) như hình vẽ bê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760" y="2133720"/>
            <a:ext cx="296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ứng minh rằ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29000" y="2133720"/>
          <a:ext cx="19875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133720"/>
                    <a:ext cx="19875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6070680" y="1117440"/>
            <a:ext cx="2557440" cy="2283120"/>
            <a:chOff x="6070680" y="1117440"/>
            <a:chExt cx="2557440" cy="2283120"/>
          </a:xfrm>
        </p:grpSpPr>
        <p:grpSp>
          <p:nvGrpSpPr>
            <p:cNvPr id="222" name=""/>
            <p:cNvGrpSpPr/>
            <p:nvPr/>
          </p:nvGrpSpPr>
          <p:grpSpPr>
            <a:xfrm>
              <a:off x="7926480" y="1457280"/>
              <a:ext cx="361800" cy="353880"/>
              <a:chOff x="7926480" y="1457280"/>
              <a:chExt cx="361800" cy="353880"/>
            </a:xfrm>
          </p:grpSpPr>
          <p:sp>
            <p:nvSpPr>
              <p:cNvPr id="223" name=""/>
              <p:cNvSpPr/>
              <p:nvPr/>
            </p:nvSpPr>
            <p:spPr>
              <a:xfrm>
                <a:off x="7977240" y="1457280"/>
                <a:ext cx="309600" cy="303120"/>
              </a:xfrm>
              <a:custGeom>
                <a:avLst/>
                <a:gdLst/>
                <a:ahLst/>
                <a:rect l="l" t="t" r="r" b="b"/>
                <a:pathLst>
                  <a:path w="195" h="191">
                    <a:moveTo>
                      <a:pt x="195" y="189"/>
                    </a:moveTo>
                    <a:cubicBezTo>
                      <a:pt x="89" y="191"/>
                      <a:pt x="2" y="107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926480" y="1457280"/>
                <a:ext cx="361800" cy="353880"/>
              </a:xfrm>
              <a:custGeom>
                <a:avLst/>
                <a:gdLst/>
                <a:ahLst/>
                <a:rect l="l" t="t" r="r" b="b"/>
                <a:pathLst>
                  <a:path w="228" h="223">
                    <a:moveTo>
                      <a:pt x="228" y="221"/>
                    </a:moveTo>
                    <a:cubicBezTo>
                      <a:pt x="104" y="223"/>
                      <a:pt x="3" y="125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6480000" y="2222640"/>
              <a:ext cx="252720" cy="372960"/>
            </a:xfrm>
            <a:custGeom>
              <a:avLst/>
              <a:gdLst/>
              <a:ahLst/>
              <a:rect l="l" t="t" r="r" b="b"/>
              <a:pathLst>
                <a:path w="159" h="235">
                  <a:moveTo>
                    <a:pt x="0" y="0"/>
                  </a:moveTo>
                  <a:cubicBezTo>
                    <a:pt x="101" y="29"/>
                    <a:pt x="159" y="134"/>
                    <a:pt x="131" y="235"/>
                  </a:cubicBezTo>
                </a:path>
              </a:pathLst>
            </a:custGeom>
            <a:noFill/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69120" y="1138320"/>
              <a:ext cx="2259000" cy="226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396120" y="1472760"/>
              <a:ext cx="299880" cy="10400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6396120" y="2513160"/>
              <a:ext cx="1914480" cy="5428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696000" y="1452240"/>
              <a:ext cx="1584360" cy="20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80360" y="1452600"/>
              <a:ext cx="30240" cy="1603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321680" y="2244600"/>
              <a:ext cx="220320" cy="455040"/>
              <a:chOff x="7321680" y="2244600"/>
              <a:chExt cx="220320" cy="455040"/>
            </a:xfrm>
          </p:grpSpPr>
          <p:sp>
            <p:nvSpPr>
              <p:cNvPr id="232" name=""/>
              <p:cNvSpPr/>
              <p:nvPr/>
            </p:nvSpPr>
            <p:spPr>
              <a:xfrm>
                <a:off x="7473960" y="2244600"/>
                <a:ext cx="50760" cy="49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473960" y="2244600"/>
                <a:ext cx="50760" cy="49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21680" y="233352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437160" y="1117440"/>
              <a:ext cx="284400" cy="381240"/>
              <a:chOff x="6437160" y="1117440"/>
              <a:chExt cx="284400" cy="381240"/>
            </a:xfrm>
          </p:grpSpPr>
          <p:sp>
            <p:nvSpPr>
              <p:cNvPr id="236" name=""/>
              <p:cNvSpPr/>
              <p:nvPr/>
            </p:nvSpPr>
            <p:spPr>
              <a:xfrm>
                <a:off x="6670800" y="14479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70800" y="144792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37160" y="111744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6070680" y="2384280"/>
              <a:ext cx="350640" cy="366120"/>
              <a:chOff x="6070680" y="2384280"/>
              <a:chExt cx="350640" cy="366120"/>
            </a:xfrm>
          </p:grpSpPr>
          <p:sp>
            <p:nvSpPr>
              <p:cNvPr id="240" name=""/>
              <p:cNvSpPr/>
              <p:nvPr/>
            </p:nvSpPr>
            <p:spPr>
              <a:xfrm>
                <a:off x="6370560" y="24876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70560" y="248760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70680" y="238428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8285040" y="2978280"/>
              <a:ext cx="318960" cy="366120"/>
              <a:chOff x="8285040" y="2978280"/>
              <a:chExt cx="318960" cy="366120"/>
            </a:xfrm>
          </p:grpSpPr>
          <p:sp>
            <p:nvSpPr>
              <p:cNvPr id="244" name=""/>
              <p:cNvSpPr/>
              <p:nvPr/>
            </p:nvSpPr>
            <p:spPr>
              <a:xfrm>
                <a:off x="8285040" y="30304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285040" y="303048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3680" y="297828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8255160" y="1154160"/>
              <a:ext cx="268200" cy="366120"/>
              <a:chOff x="8255160" y="1154160"/>
              <a:chExt cx="268200" cy="36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8255160" y="14270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55160" y="14270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319960" y="115416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304920" y="4546440"/>
            <a:ext cx="8245440" cy="10076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Trong một tứ giác nội tiếp, tổng số đo hai góc đối nhau bằng 180</a:t>
            </a:r>
            <a:r>
              <a:rPr b="1" i="1" lang="en-US" sz="3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3962520"/>
            <a:ext cx="1676160" cy="550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efde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Định l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505320" y="2682720"/>
          <a:ext cx="15238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682720"/>
                    <a:ext cx="15238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4806720" y="2711520"/>
            <a:ext cx="7750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1360" y="335268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 có kết luận gì về tứ giác nội tiế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52280" y="1697040"/>
          <a:ext cx="8763120" cy="4765680"/>
        </p:xfrm>
        <a:graphic>
          <a:graphicData uri="http://schemas.openxmlformats.org/drawingml/2006/table">
            <a:tbl>
              <a:tblPr/>
              <a:tblGrid>
                <a:gridCol w="2443320"/>
                <a:gridCol w="1052640"/>
                <a:gridCol w="1054080"/>
                <a:gridCol w="1052280"/>
                <a:gridCol w="1054080"/>
                <a:gridCol w="1054080"/>
                <a:gridCol w="1052640"/>
              </a:tblGrid>
              <a:tr h="14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30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Trườn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30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hợp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Gó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</a:tr>
              <a:tr h="82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066680" y="3144960"/>
          <a:ext cx="6192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144960"/>
                    <a:ext cx="619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743200" y="3220920"/>
          <a:ext cx="76212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220920"/>
                    <a:ext cx="7621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4876920" y="3220920"/>
          <a:ext cx="761760" cy="63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220920"/>
                    <a:ext cx="7617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858000" y="3220920"/>
          <a:ext cx="838080" cy="70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3220920"/>
                    <a:ext cx="838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066680" y="3983040"/>
          <a:ext cx="5828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3983040"/>
                    <a:ext cx="582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666880" y="3983040"/>
          <a:ext cx="914400" cy="76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3983040"/>
                    <a:ext cx="9144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791320" y="3983040"/>
          <a:ext cx="914400" cy="76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3983040"/>
                    <a:ext cx="9144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7924680" y="4059360"/>
          <a:ext cx="914400" cy="71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24680" y="4059360"/>
                    <a:ext cx="9144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041480" y="4821120"/>
          <a:ext cx="558720" cy="838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1480" y="4821120"/>
                    <a:ext cx="558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657600" y="4973760"/>
          <a:ext cx="914400" cy="60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57600" y="4973760"/>
                    <a:ext cx="9144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5791320" y="4897440"/>
          <a:ext cx="838080" cy="70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1320" y="4897440"/>
                    <a:ext cx="838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066680" y="5659560"/>
          <a:ext cx="563760" cy="761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66680" y="5659560"/>
                    <a:ext cx="563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733920" y="5659560"/>
          <a:ext cx="838080" cy="704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920" y="5659560"/>
                    <a:ext cx="838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800600" y="5711760"/>
          <a:ext cx="838080" cy="703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00600" y="5711760"/>
                    <a:ext cx="83808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-1219320" y="1676520"/>
            <a:ext cx="1325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1219320" y="1676520"/>
            <a:ext cx="5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1219320" y="1676520"/>
            <a:ext cx="5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1219320" y="1676520"/>
            <a:ext cx="5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1219320" y="1676520"/>
            <a:ext cx="1325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219320" y="1676520"/>
            <a:ext cx="5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1219320" y="1676520"/>
            <a:ext cx="5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1219320" y="1676520"/>
            <a:ext cx="5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743200" y="4973760"/>
          <a:ext cx="838080" cy="503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43200" y="4973760"/>
                    <a:ext cx="83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666880" y="5811840"/>
          <a:ext cx="914400" cy="549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66880" y="5811840"/>
                    <a:ext cx="9144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809880" y="3297240"/>
          <a:ext cx="762120" cy="639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809880" y="3297240"/>
                    <a:ext cx="7621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733920" y="4135320"/>
          <a:ext cx="838080" cy="503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733920" y="4135320"/>
                    <a:ext cx="83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800600" y="4135320"/>
          <a:ext cx="762120" cy="5922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800600" y="4135320"/>
                    <a:ext cx="7621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800600" y="4973760"/>
          <a:ext cx="762120" cy="5918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800600" y="4973760"/>
                    <a:ext cx="7621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5867280" y="5811840"/>
          <a:ext cx="838440" cy="503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67280" y="5811840"/>
                    <a:ext cx="838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0" y="33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010280" y="4211640"/>
          <a:ext cx="457200" cy="4287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7010280" y="4211640"/>
                    <a:ext cx="4572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858000" y="4973760"/>
          <a:ext cx="914400" cy="549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858000" y="4973760"/>
                    <a:ext cx="9144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781680" y="5888160"/>
          <a:ext cx="1067040" cy="4888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781680" y="5888160"/>
                    <a:ext cx="10670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077320" y="3373560"/>
          <a:ext cx="431640" cy="53316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077320" y="3373560"/>
                    <a:ext cx="431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0" y="32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7848720" y="5049720"/>
          <a:ext cx="990360" cy="4651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848720" y="5049720"/>
                    <a:ext cx="990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924680" y="5811840"/>
          <a:ext cx="838440" cy="503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7924680" y="5811840"/>
                    <a:ext cx="838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228600" y="65520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nl-NL" sz="3000" spc="-1" strike="noStrike">
                <a:solidFill>
                  <a:srgbClr val="000000"/>
                </a:solidFill>
                <a:latin typeface="Times New Roman"/>
              </a:rPr>
              <a:t>Biết tứ giác ABCD nội tiếp. Hãy điền vào ô trống trong bảng sau (nếu có thể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791320" y="3297240"/>
          <a:ext cx="914400" cy="54936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791320" y="3297240"/>
                    <a:ext cx="9144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2895840" y="15228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oạt động nhóm bố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819520" y="1143000"/>
            <a:ext cx="32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oạt động nhóm đô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3718080"/>
            <a:ext cx="2286000" cy="550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efde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Định lí đ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4460760"/>
            <a:ext cx="8245440" cy="10076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Nếu một tứ giác có tổng số đo hai góc đối nhau bằng 180</a:t>
            </a:r>
            <a:r>
              <a:rPr b="1" i="1" lang="en-US" sz="3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 thì tứ giác đó nội tiếp được đường trò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1879560"/>
            <a:ext cx="8245440" cy="10076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Trong một tứ giác nội tiếp, tổng số đo hai góc đối nhau bằng 180</a:t>
            </a:r>
            <a:r>
              <a:rPr b="1" i="1" lang="en-US" sz="3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1143000"/>
            <a:ext cx="1676160" cy="550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efde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Định l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2320" y="1716840"/>
            <a:ext cx="821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0000"/>
                </a:solidFill>
                <a:latin typeface="Times New Roman"/>
              </a:rPr>
              <a:t>Hãy bổ sung một yếu tố để tứ giác MNEF nội tiếp.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676520" y="2678040"/>
          <a:ext cx="380988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78040"/>
                    <a:ext cx="38098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676520" y="3745080"/>
          <a:ext cx="40384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745080"/>
                    <a:ext cx="4038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267080" y="3657600"/>
          <a:ext cx="1524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657600"/>
                    <a:ext cx="1524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191120" y="2602080"/>
          <a:ext cx="14475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2602080"/>
                    <a:ext cx="14475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446840" y="1370880"/>
            <a:ext cx="6298200" cy="550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33cc"/>
                </a:solidFill>
                <a:latin typeface="Times New Roman"/>
              </a:rPr>
              <a:t>TRÒ CHƠI: ĐUỔI HÌNH BẮT CH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2819160"/>
            <a:ext cx="7315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0000"/>
                </a:solidFill>
                <a:latin typeface="Times New Roman"/>
              </a:rPr>
              <a:t>Yêu cầu:</a:t>
            </a:r>
            <a:r>
              <a:rPr b="1" lang="nl-NL" sz="3000" spc="-1" strike="noStrike">
                <a:solidFill>
                  <a:srgbClr val="0033cc"/>
                </a:solidFill>
                <a:latin typeface="Times New Roman"/>
              </a:rPr>
              <a:t> Nhìn hình đoán nhanh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nl-NL" sz="3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nl-NL" sz="3000" spc="-1" strike="noStrike">
                <a:solidFill>
                  <a:srgbClr val="0033cc"/>
                </a:solidFill>
                <a:latin typeface="Times New Roman"/>
              </a:rPr>
              <a:t>- Tên của hình vẽ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nl-NL" sz="3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nl-NL" sz="3000" spc="-1" strike="noStrike">
                <a:solidFill>
                  <a:srgbClr val="0033cc"/>
                </a:solidFill>
                <a:latin typeface="Times New Roman"/>
              </a:rPr>
              <a:t>- Có nội tiếp đường tròn khô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21:52:13Z</dcterms:created>
  <dc:creator>D2</dc:creator>
  <dc:description/>
  <dc:language>en-US</dc:language>
  <cp:lastModifiedBy>NP-COMPUTER</cp:lastModifiedBy>
  <dcterms:modified xsi:type="dcterms:W3CDTF">2015-03-08T21:52:20Z</dcterms:modified>
  <cp:revision>746</cp:revision>
  <dc:subject/>
  <dc:title>tiết 40</dc:title>
</cp:coreProperties>
</file>